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8465-2081-4F58-9325-5CDBC71A3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5A32-0708-44AB-A2A6-9AF5D105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E0C9-D2A6-4490-8B36-23B58741F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AE97-841E-402A-9219-14A434477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B2A6-CC66-48A0-859E-E4C7DF487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06D0-FC61-4D59-878F-B2080AC7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0275-DDF5-47AE-9234-E2C60447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47FC-9ADE-4AF7-BDC5-C00D73F7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7618-ADD9-47A6-AB54-AED02FD1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D8DB-78FC-45FF-9740-C2A3E910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B59F-67C1-47E8-8C5C-14D27FCC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68A5-0C37-45D5-8505-BABA52A3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9DDB-02C6-499A-A0A5-683C6509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DDB6-E07A-44D8-86A8-846F02EA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88E3-2C15-4D5A-86E9-3CEE693A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7448-B2F6-4D00-9A8A-E5511E6B8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544B-A45C-45D8-B988-15A5631B2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44420-6377-43D2-9CF4-A2A8EB8A9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10D47-BFD2-4F00-A500-4F182ED6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93E60-0142-4B8F-9BF8-D46D3364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C8465-4453-42E5-BA47-18AF739E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8A7D6-9D4A-4D1E-A7B7-70363363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4E30-885D-4D7D-9B71-B77DF464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4BE5E-7331-499F-AF8C-E6056CAE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DDBD7-1D66-4ADB-BCE8-45BBFABC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91C79-DC1B-498B-931D-18236A06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ACC15-3FE1-4714-96E3-C2AFB5A3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4A48D-9E23-4F41-B358-CD82B8C7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BEC4C-197D-4425-80D0-AA257A075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A04CE-8E41-45D4-A510-541999E0A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F0B6C-9505-40F8-AA1E-C5E4CE9CA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DDF76-A72C-4D00-8BC1-6DE1B307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57291-A1BF-435F-BC0E-C87B0111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DF9E-C42A-43D4-AFCA-5C056BB0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05FB0-8CD4-4A2D-ABB6-E144F72B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F4D46-C8CE-4A69-8E2C-462A3BEE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1198E-C3B7-4CCE-80F0-B446AD53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55004-1E62-4B6C-BB44-1C072858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F36CF-474C-4939-B29D-BF269303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3F80D-CF3E-42F2-B731-8F9465E3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F315D-36D1-4575-A8DC-48B20EDA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47873-612B-40D6-8248-D65A25C24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374DA-C751-4057-B18F-D006CA6EB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5A43-6E45-44AF-BD8E-453D2C4F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EF0A-14F0-455E-8223-05B844F6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41D2-17EA-4A21-91BC-46F7D3BC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F6BB-281F-482E-A2F7-23211C2F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2EEC-5B88-4526-AAC5-3B4828C7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0CC5-BC9D-468F-B265-3E2CBF5A573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91D8-1CD0-4B1D-B209-B503A3D2650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6941-580C-413E-AA85-14160541144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3E72-3CB2-4E38-A423-9F8D3F8BA60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928800" y="2214720"/>
            <a:ext cx="7307280" cy="4082760"/>
          </a:xfrm>
          <a:prstGeom prst="rect">
            <a:avLst/>
          </a:prstGeom>
          <a:ln w="0">
            <a:noFill/>
          </a:ln>
        </p:spPr>
      </p:pic>
      <p:pic>
        <p:nvPicPr>
          <p:cNvPr id="196" name="Прямоугольник 5" descr=""/>
          <p:cNvPicPr/>
          <p:nvPr/>
        </p:nvPicPr>
        <p:blipFill>
          <a:blip r:embed="rId2"/>
          <a:stretch/>
        </p:blipFill>
        <p:spPr>
          <a:xfrm>
            <a:off x="450720" y="378000"/>
            <a:ext cx="8444160" cy="19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Прямоугольник 1" descr=""/>
          <p:cNvPicPr/>
          <p:nvPr/>
        </p:nvPicPr>
        <p:blipFill>
          <a:blip r:embed="rId1"/>
          <a:stretch/>
        </p:blipFill>
        <p:spPr>
          <a:xfrm>
            <a:off x="281160" y="171360"/>
            <a:ext cx="8508960" cy="1243080"/>
          </a:xfrm>
          <a:prstGeom prst="rect">
            <a:avLst/>
          </a:prstGeom>
          <a:ln w="0">
            <a:noFill/>
          </a:ln>
        </p:spPr>
      </p:pic>
      <p:sp>
        <p:nvSpPr>
          <p:cNvPr id="220" name="TextBox 4"/>
          <p:cNvSpPr/>
          <p:nvPr/>
        </p:nvSpPr>
        <p:spPr>
          <a:xfrm>
            <a:off x="428760" y="1214280"/>
            <a:ext cx="8358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считано, что потенциально приливы и отливы могут дать человечеству примерно 70 млн. миллиардов киловатт-часов в год. Для сравнения: это примерно столько же энергии, сколько может дать использование в энергетических целях разведанных запасов каменного и бурого угля, вместе взятых. Образно говоря, одни только приливы могли бы обеспечить процветание на Земле тридцати тысяч современных “Америк” при максимально эффективном использовании приливов и отливов, но до этого пока дале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Прямоугольник 3" descr=""/>
          <p:cNvPicPr/>
          <p:nvPr/>
        </p:nvPicPr>
        <p:blipFill>
          <a:blip r:embed="rId1"/>
          <a:stretch/>
        </p:blipFill>
        <p:spPr>
          <a:xfrm>
            <a:off x="1311120" y="30240"/>
            <a:ext cx="6632640" cy="1847880"/>
          </a:xfrm>
          <a:prstGeom prst="rect">
            <a:avLst/>
          </a:prstGeom>
          <a:ln w="0">
            <a:noFill/>
          </a:ln>
        </p:spPr>
      </p:pic>
      <p:sp>
        <p:nvSpPr>
          <p:cNvPr id="222" name="TextBox 5"/>
          <p:cNvSpPr/>
          <p:nvPr/>
        </p:nvSpPr>
        <p:spPr>
          <a:xfrm>
            <a:off x="357120" y="1357200"/>
            <a:ext cx="84297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мерно 1/5 часть энергии, потребляемой во всём мире, вырабатывают на ГЭС. Её получают, преобразуя энергию падающей воды в энергию вращения турбин, которая в свою очередь вращает генератор, вырабатывающий электричество. Гидростанции бывают очень мощными. Так, станция Итапу на реке Парана на границе между Бразилией и Парагваем развивает мощность до13 000 млн.Кв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Прямоугольник 4" descr=""/>
          <p:cNvPicPr/>
          <p:nvPr/>
        </p:nvPicPr>
        <p:blipFill>
          <a:blip r:embed="rId1"/>
          <a:stretch/>
        </p:blipFill>
        <p:spPr>
          <a:xfrm>
            <a:off x="23760" y="23760"/>
            <a:ext cx="9139320" cy="1847880"/>
          </a:xfrm>
          <a:prstGeom prst="rect">
            <a:avLst/>
          </a:prstGeom>
          <a:ln w="0">
            <a:noFill/>
          </a:ln>
        </p:spPr>
      </p:pic>
      <p:sp>
        <p:nvSpPr>
          <p:cNvPr id="224" name="TextBox 6"/>
          <p:cNvSpPr/>
          <p:nvPr/>
        </p:nvSpPr>
        <p:spPr>
          <a:xfrm>
            <a:off x="714240" y="1857240"/>
            <a:ext cx="7929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разилия активно использует сахарный тростник и через 5 лет планируется 80% транспорта перевести на этанол, который из тростника и добывает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Прямоугольник 1" descr=""/>
          <p:cNvPicPr/>
          <p:nvPr/>
        </p:nvPicPr>
        <p:blipFill>
          <a:blip r:embed="rId1"/>
          <a:stretch/>
        </p:blipFill>
        <p:spPr>
          <a:xfrm>
            <a:off x="2346480" y="96840"/>
            <a:ext cx="3682800" cy="1854360"/>
          </a:xfrm>
          <a:prstGeom prst="rect">
            <a:avLst/>
          </a:prstGeom>
          <a:ln w="0">
            <a:noFill/>
          </a:ln>
        </p:spPr>
      </p:pic>
      <p:sp>
        <p:nvSpPr>
          <p:cNvPr id="226" name="TextBox 2"/>
          <p:cNvSpPr/>
          <p:nvPr/>
        </p:nvSpPr>
        <p:spPr>
          <a:xfrm>
            <a:off x="428760" y="1500120"/>
            <a:ext cx="8429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обозримом будущем природное топливо по-прежнему будет важным источником энергии. Однако природные ресурсы ограничены, и в конце концов человечество будет вынуждено перейти на использование энергии ветра и Солнца, о чем с незапамятных времен мечтают защитники окружающе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"/>
          <p:cNvSpPr/>
          <p:nvPr/>
        </p:nvSpPr>
        <p:spPr>
          <a:xfrm>
            <a:off x="357120" y="357120"/>
            <a:ext cx="8358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ужно принимать во внимание то, что собственно запасы топливных ресурсов ограничены. И с таким мировым потреблением как сейчас, на долго не хватит ни нефти, ни газа. Сколько это «на долго»? Прогнозировать все-таки сложно. Газа, который имеется на территории бывшего СССР, по самым оптимистическим прогнозам хватит на 70 лет. Нефть в Саудовской Аравии закончится лет так через 35. Эти цифры должны заставить задуматься всех. Это ведь не так и много. А что потом? Что делать дальше, особенно если на тот момент не будет альтернативных вариант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1"/>
          <p:cNvSpPr/>
          <p:nvPr/>
        </p:nvSpPr>
        <p:spPr>
          <a:xfrm>
            <a:off x="500040" y="285840"/>
            <a:ext cx="80726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какие альтернативные источ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нергии существую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лнечная энерг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нергия ветра и вол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до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нергия приливов и отлив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идроэнерг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харный трост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Прямоугольник 1" descr=""/>
          <p:cNvPicPr/>
          <p:nvPr/>
        </p:nvPicPr>
        <p:blipFill>
          <a:blip r:embed="rId1"/>
          <a:stretch/>
        </p:blipFill>
        <p:spPr>
          <a:xfrm>
            <a:off x="1122480" y="-30240"/>
            <a:ext cx="6862680" cy="1103400"/>
          </a:xfrm>
          <a:prstGeom prst="rect">
            <a:avLst/>
          </a:prstGeom>
          <a:ln w="0">
            <a:noFill/>
          </a:ln>
        </p:spPr>
      </p:pic>
      <p:sp>
        <p:nvSpPr>
          <p:cNvPr id="200" name="TextBox 2"/>
          <p:cNvSpPr/>
          <p:nvPr/>
        </p:nvSpPr>
        <p:spPr>
          <a:xfrm>
            <a:off x="142920" y="928800"/>
            <a:ext cx="88581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ьзование всего лишь 0.0125% количества энергии Солнца могло бы обеспечить все сегодняшние потребности мировой энергетики, а использ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.5 % - полностью покрыть потребности на перспекти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ним из наиболее серьезных препятствий такой реализации является низкая интенсивность солнечного излучения. Даже при наилучших атмосферных условиях ( южные широты, чистое небо ) плотность потока солнечного излучения составляет не более 250 Вт/м2. Поэтому, чтобы коллекторы солнечного излучения "собирали" за год энергию, необходимую для удовлетворения всех потребностей человечества нужно разместить их на территории 130 000 км2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" descr=""/>
          <p:cNvPicPr/>
          <p:nvPr/>
        </p:nvPicPr>
        <p:blipFill>
          <a:blip r:embed="rId1"/>
          <a:stretch/>
        </p:blipFill>
        <p:spPr>
          <a:xfrm>
            <a:off x="3500280" y="214200"/>
            <a:ext cx="1928880" cy="1928880"/>
          </a:xfrm>
          <a:prstGeom prst="rect">
            <a:avLst/>
          </a:prstGeom>
          <a:ln w="0">
            <a:noFill/>
          </a:ln>
        </p:spPr>
      </p:pic>
      <p:sp>
        <p:nvSpPr>
          <p:cNvPr id="202" name="Стрелка вверх 2"/>
          <p:cNvSpPr/>
          <p:nvPr/>
        </p:nvSpPr>
        <p:spPr>
          <a:xfrm rot="14677800">
            <a:off x="2491200" y="794160"/>
            <a:ext cx="485640" cy="1236600"/>
          </a:xfrm>
          <a:prstGeom prst="upArrow">
            <a:avLst>
              <a:gd name="adj1" fmla="val 50000"/>
              <a:gd name="adj2" fmla="val 49854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Стрелка вверх 3"/>
          <p:cNvSpPr/>
          <p:nvPr/>
        </p:nvSpPr>
        <p:spPr>
          <a:xfrm rot="10800000">
            <a:off x="4285800" y="2357280"/>
            <a:ext cx="484200" cy="1500480"/>
          </a:xfrm>
          <a:prstGeom prst="upArrow">
            <a:avLst>
              <a:gd name="adj1" fmla="val 50000"/>
              <a:gd name="adj2" fmla="val 50056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Стрелка вверх 4"/>
          <p:cNvSpPr/>
          <p:nvPr/>
        </p:nvSpPr>
        <p:spPr>
          <a:xfrm rot="6492000">
            <a:off x="5958000" y="757800"/>
            <a:ext cx="486000" cy="1303560"/>
          </a:xfrm>
          <a:prstGeom prst="upArrow">
            <a:avLst>
              <a:gd name="adj1" fmla="val 50000"/>
              <a:gd name="adj2" fmla="val 49832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428760" y="1857240"/>
            <a:ext cx="2435040" cy="1857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3143160" y="3929040"/>
            <a:ext cx="2849760" cy="18572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"/>
          <p:cNvPicPr/>
          <p:nvPr/>
        </p:nvPicPr>
        <p:blipFill>
          <a:blip r:embed="rId4"/>
          <a:stretch/>
        </p:blipFill>
        <p:spPr>
          <a:xfrm>
            <a:off x="6215040" y="1857240"/>
            <a:ext cx="2571840" cy="1971720"/>
          </a:xfrm>
          <a:prstGeom prst="rect">
            <a:avLst/>
          </a:prstGeom>
          <a:ln w="0">
            <a:noFill/>
          </a:ln>
        </p:spPr>
      </p:pic>
      <p:sp>
        <p:nvSpPr>
          <p:cNvPr id="208" name="TextBox 8"/>
          <p:cNvSpPr/>
          <p:nvPr/>
        </p:nvSpPr>
        <p:spPr>
          <a:xfrm>
            <a:off x="223920" y="3929040"/>
            <a:ext cx="27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втомобили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лнечной энер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9"/>
          <p:cNvSpPr/>
          <p:nvPr/>
        </p:nvSpPr>
        <p:spPr>
          <a:xfrm>
            <a:off x="2590560" y="6000840"/>
            <a:ext cx="408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лнечное электри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0"/>
          <p:cNvSpPr/>
          <p:nvPr/>
        </p:nvSpPr>
        <p:spPr>
          <a:xfrm>
            <a:off x="6072120" y="4000680"/>
            <a:ext cx="292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ма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лнечных батаре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Прямоугольник 1" descr=""/>
          <p:cNvPicPr/>
          <p:nvPr/>
        </p:nvPicPr>
        <p:blipFill>
          <a:blip r:embed="rId1"/>
          <a:stretch/>
        </p:blipFill>
        <p:spPr>
          <a:xfrm>
            <a:off x="353880" y="12600"/>
            <a:ext cx="8436240" cy="147492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2"/>
          <p:cNvSpPr/>
          <p:nvPr/>
        </p:nvSpPr>
        <p:spPr>
          <a:xfrm>
            <a:off x="285840" y="1071720"/>
            <a:ext cx="8572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тенциал энергии ветра подсчитан более менее точно: по оценке Всемирной метеорологической организации ее запасы в мире составляют 170 трлн кВт·ч в г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нергия волн имеет существенные преимущества перед другими видами возобновляемых источников, к примеру, перед ветром. Поведение волн более предсказуемо, а плотность энергии в них в 50 раз выше, чем в вет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1"/>
          <p:cNvSpPr/>
          <p:nvPr/>
        </p:nvSpPr>
        <p:spPr>
          <a:xfrm>
            <a:off x="285840" y="357120"/>
            <a:ext cx="8429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еликобритания использует энергию ветра и волн, и к 2012 году 10% энергии страны будут из возобновляемых источников, ведь энергии ветра и волн гарантированно хватит намного дольше, чем органических источников энерг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1071720" y="2928960"/>
            <a:ext cx="3692520" cy="2928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"/>
          <p:cNvPicPr/>
          <p:nvPr/>
        </p:nvPicPr>
        <p:blipFill>
          <a:blip r:embed="rId2"/>
          <a:stretch/>
        </p:blipFill>
        <p:spPr>
          <a:xfrm>
            <a:off x="5572080" y="2928960"/>
            <a:ext cx="24289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Прямоугольник 1" descr=""/>
          <p:cNvPicPr/>
          <p:nvPr/>
        </p:nvPicPr>
        <p:blipFill>
          <a:blip r:embed="rId1"/>
          <a:stretch/>
        </p:blipFill>
        <p:spPr>
          <a:xfrm>
            <a:off x="2219400" y="6480"/>
            <a:ext cx="4529160" cy="1139760"/>
          </a:xfrm>
          <a:prstGeom prst="rect">
            <a:avLst/>
          </a:prstGeom>
          <a:ln w="0">
            <a:noFill/>
          </a:ln>
        </p:spPr>
      </p:pic>
      <p:sp>
        <p:nvSpPr>
          <p:cNvPr id="217" name="TextBox 3"/>
          <p:cNvSpPr/>
          <p:nvPr/>
        </p:nvSpPr>
        <p:spPr>
          <a:xfrm>
            <a:off x="357120" y="1214280"/>
            <a:ext cx="8429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 данный момент водород является самым разрабатываемым «топливом будущего». На это есть несколько причин: при окислении водорода образуется как побочный продукт вода, из нее же можно водород добывать. А если учесть, что 73% поверхности Земли покрыты водой, то можно считать, что водород неисчерпаемое топливо. Так же возможно использование водорода для осуществления термоядерного синтеза, который вот уже несколько миллиардов лет происходит на нашем Солнце и обеспечивает нас солнечной энерг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1"/>
          <p:cNvSpPr/>
          <p:nvPr/>
        </p:nvSpPr>
        <p:spPr>
          <a:xfrm>
            <a:off x="285840" y="357120"/>
            <a:ext cx="86439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дород в основном применяют для производства азотных удобрений и для превращения низкокачественных видов сырой нефти в моторное топливо. Сжиженный водород используют для получения сверхнизких температур и в качестве горючего для криогенных ракетных двигателей. Водородные заправки уже появились в нескольких местах в Германии, Японии, СШ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6:02:43Z</dcterms:created>
  <dc:creator>Маша</dc:creator>
  <dc:description/>
  <dc:language>en-US</dc:language>
  <cp:lastModifiedBy>Маша</cp:lastModifiedBy>
  <dcterms:modified xsi:type="dcterms:W3CDTF">2010-04-22T12:52:21Z</dcterms:modified>
  <cp:revision>25</cp:revision>
  <dc:subject/>
  <dc:title>Слайд 1</dc:title>
</cp:coreProperties>
</file>